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DA3-3D3C-468C-B0E2-9BC0AE25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59E-8E74-4918-9BEA-0ABE2A95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05189-3F28-4E12-A773-44C379DB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88C52-73AA-4693-84D6-621B0C59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6BB79-7C01-4720-91F4-52C86A28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01C18-EB2A-46AD-887C-4BE0071B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A25EC-FE39-422F-9943-7F0C5BD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72B8B-D475-46A0-80E5-5A2B7E38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F5340-19E1-45B0-89D9-1D9DFEEA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0F495-64DE-430F-B086-7D66C751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59BC9-C103-452C-A1E6-77AE39FC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53A12-D4F5-4486-8FFE-CB348181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1C3-CB4E-4E08-8F38-6ED5CFD6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591E2-9D15-4DBE-8518-89E40C3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A0EE5-E50E-41A1-807A-46506CB3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06267-B2D6-40A4-90A3-8260DC44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3A6F7-62D8-4809-95DF-E6F30B95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163F5-1E6B-4A5A-92A2-AFFEA601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731F9-5356-4C6C-A9FD-2D755169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3F190-E0F1-448D-A4B1-AF43D16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0EA14-B99F-4C74-8A70-C43DFB32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9BDCF-1B89-4814-9DF3-1B9434E1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FFD59-049B-42EB-A286-7BD3F332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66D-F77D-4781-A95F-4896E31D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41414-23D0-4E4B-A037-D8EA2A3A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BB400-8114-4E52-B767-0B7A7E12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E7170-F993-479B-9671-5B85F764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E3222-AE48-4911-A052-E7920327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58965-FFE7-44D5-A2BA-F7E013F9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2634-CBA2-4CDB-85DE-5719E89B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5C6DB-C616-4D51-A7E4-9C29B2F8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42737-A137-49F4-985D-9E99EC8E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DE9C3-B8CD-48A8-9178-13C21E1F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B1546-C63D-4FDA-B2DA-303378B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F7E4-66AA-4FF0-BAF5-5140297B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D43A4-31AC-415F-B32D-A7453351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0B42B-5F2C-4F4A-9D7D-D46284A2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42409-9818-4B45-B488-A1D5D006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CA6D5-219F-4D23-B0FA-A9EC73C6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ADFD7-A95C-46A9-910B-A21D1459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E46FA-EC16-4F8A-8825-EB665818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A5CE7-33EC-41E4-85BE-7C1A394D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ABBF1-2EA7-4C06-A8EC-B114A1C0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E2306-BB52-4F99-8EDF-D588BB62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F3DA4-A84C-4BB0-9913-2ADE9CA1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2F04-0950-4606-A9E3-23BCEE70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7F51A-5608-4C42-845A-66222E2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695D1-38BD-4222-93D2-387B00D9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7B6D9-2189-4F99-8104-05B21593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9F870-AE8A-4E34-B84E-86C2318A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3155A-5310-4CF4-9F67-86ED0257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F4DDC-D6D9-47DE-8E9A-C1855D29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29D86-DD2F-4E20-BDA7-4ABB8F98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E22BF-7FF5-4C1F-BBE5-6568C173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09499-3065-4BA7-B71B-76E990EA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AB56A-8C23-4747-9DB1-B2342079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47DA-DC97-44A7-9FB9-39F53FB2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6AB04-6437-48F7-9FC6-0E40F881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E2824-0F27-4327-9345-4191DFA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3497C-34A9-4A45-932B-67E75462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CBF14-8CB8-4F8D-A0D3-70A3CDBF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93619-7F9E-4CEF-A7A8-97EF8BDE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9AFEC-6C61-4E8A-A7E2-27247852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7DCA7-E869-4FFD-96C7-4DF69618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76D25-674E-47D4-ADB8-DD206B88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EC28F-B9B3-464B-9057-C28C618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4A4B7-AC5B-4D30-9622-0769F3CB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B34-AC58-47C6-B6F1-03C8AE26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A984C-BA74-4943-8219-5E0E5A9E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8D858-2D95-40AF-9400-A7BF17EC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AB00A-2070-4617-AF6B-058A77AE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95159-F7D1-4E8A-B053-5ED32F09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DCB40-E47F-41B3-9FF3-FFF83DF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15948-78C9-43A7-B920-260C923A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51213-0022-4DED-8CE7-6BA41544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F3EC5-4138-4152-8671-767518DA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5D6BC-B5F6-4769-8168-743A60BB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FED16-947D-47E4-B379-A587F3EF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CA37-9EFC-42E2-B7B8-D759B202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2D990-358D-473B-A954-171B4DCA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84C0C-A081-413B-9A97-E2AE7169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DAF1B-D2EA-4BC1-B999-2B3C73B0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E5720-4935-4295-9A4A-0B99678D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EEED0-D897-4A6F-8CB3-06BAB798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EB999-448F-4AD0-BAA0-A6C27C1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50978-0220-43A1-91F3-F63D351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5A37F-67F7-45BF-B08D-6084221D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90F27-ADB4-4191-9531-E4F42A2D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E6228-E007-491F-9006-4A188F7E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BD27-23AE-4C48-B66C-68B4EA10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D7DD5A-6DBD-4106-97BC-9DCECE34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42D0B-E1CD-4D43-A925-E00DB55D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69EA55-0EC8-4F7F-A879-0C399C96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ED26F-06CB-4236-9BFE-B09B3A98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1B39E-5888-4BF7-9277-00213841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1D4A0-8DAB-4028-A008-78427E93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EA878-ACB1-425E-8A1D-C08A514D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38010-AFCF-42AB-8272-9B66AFB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72484-8E08-47DA-A8E6-BB9ECF0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C2CDF-7F4B-4E9E-AB3E-682BB38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72E9-6FCE-4B08-8B50-76A1FCE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3E8A2-4B7D-40CF-80A9-C147E0D6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E0178-8BEC-47C2-A68E-2DCC8827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A4963-BAAA-44B8-8C30-CC3C5115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428FA-DFDC-4E02-A1BE-C51215D7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1396B-DBC8-4623-B785-A0F88F7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1F7C7-16A2-432A-8C40-27E234FA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635D5-9743-4AC2-8CEB-135FA7B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7B7F6-D7B7-4A2F-8E04-3A2F082A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D05CC-6A5D-4885-8BC9-B2A1910C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9D855-48E1-4EAE-BC4C-E67D79AA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40C-7744-4364-83F9-6E2C13B1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5436-762C-4AD3-B01E-4F29C9E8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6410C-8D13-42DF-A538-383503D8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6989D-B5CE-4F06-9A45-2B37BA28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EB183-0BDB-4D5E-92AD-1BD83C9F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34746-4770-4F40-9C46-B6E193E6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6F9D7-CE53-4691-A734-DAA19A53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7AE00-58D1-4F7F-8342-46C3B1EC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5DF75-82A0-45A3-AC5E-C208E9D9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01C1C7-27DC-48CE-BAA5-BC1C7B88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86AA0-9E92-45D0-ABD0-EA614DE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5B3A9A-7C52-4EE7-8F38-E91C69D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1A88-D6B2-42CF-BBFA-A277A01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7272E-0C4C-426C-831D-D7FAC0C7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918E0-9BAE-4BF7-91A7-E9E63B7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62FF6-5D64-4372-B51B-47559429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811A3-092A-4B8E-A2A8-F88A2E8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4A457C-363F-4A60-8B1A-396B4705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67C9D0-2590-44F2-A0D5-77F45B0D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DA120-0177-4B7B-8181-7A52434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35CCB-9902-42EE-8057-0E78B790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97D5A0-D828-4160-A478-B062E6A7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7E3A7-AB39-48F9-9ABB-02B7C701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3D0A-1366-4957-864A-64E930B6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6BA01-0047-4185-B0F8-BD0E8A21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3EDA1-593B-4738-999E-5064E4F7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814C3-CAF5-4DEC-9B42-B0143AE3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296EF5-05A1-43BA-93F4-549F57E6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E0CB5B-3D68-44E6-82EA-8D9C0028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9882F9-E00E-43A2-B7C8-13F89CF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2AE35-C103-45D1-9A59-3082AEBE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AFEB1-B36A-4EB6-9E66-3F4CE3F6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D3D15-71E9-46D5-ABA0-B33091A7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604D5-7B54-4524-85F1-C41224FE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FB1A-3F36-439E-BFA2-A459BB8B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7240C-6996-48A2-B495-DB33752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E1224-D764-4419-86F7-68530B39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5F637-0A69-4BF3-9746-FED65C9E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8D61D-32B9-443C-9265-1EA3703E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2673D-C5C7-4D4E-B696-02DFE85E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22BDD8-C87D-4FFA-80D2-38CC82F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5F785-81F1-495C-969B-81939A0D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E1F83-6984-4D4C-A4A4-1046F4D8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E6263-4E5B-443F-AD39-D082FAFA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FA736-D871-4F13-934D-B97499F8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9EFC-40B1-4236-949A-E93F0054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CF2B2D-2D17-4C7B-A5DB-8BD54C00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5B1B7-796A-40B5-B8C4-3FF658C0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A74FC-E554-4E93-B092-7A5FF7C3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318D26-2105-4D54-95C3-E9A2F865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4B8A6-1499-4D3D-99D2-C2D5D872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8E6B49-CC89-46F9-AF94-D21FA071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27971-6283-4DFB-A915-96C8930A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53DA30-B870-47E7-8EDA-504AA2D3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227B1-3CDE-485C-9F35-A27E6F9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9B6A5-7883-4068-8757-19034BC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CE48-0275-4B7D-BD19-A9564D8D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3170A-4BCE-40D5-8725-609DDFEC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50A9B-CCFC-4C3C-94A5-C0CA2383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524231-5C23-49D3-93A2-A3B83FBD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5168-49B6-4159-B72A-A122C63C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C275-13F3-4273-B5DC-7D9118E1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E88E-6264-401E-87A0-9E6438CF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5B5B-0A23-45A9-9635-54471D1E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6E9-3D55-430A-ADB1-4A284B9D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0DD0-E308-4A4A-BF26-778EE39A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35D5-E267-4AF6-A84B-1ED0E11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ECF8-45A8-4089-8994-1239F60D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D743-46F9-41F1-A1F7-0D51768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315A-72DC-4BB3-B2B5-1E38F9DF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B870-A46D-4D20-A444-FEC4AEF2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A10B-4390-4D92-A0C9-94B1FBB2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BE92-3639-4395-8C66-48691376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0B3C1-B9D3-48B0-8FBE-997E485B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2730-35C9-4708-B042-9D09859F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776-0C97-4843-9B29-C63CA5E2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7E4C-A340-4F8B-90B5-1B25DF26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BF2AE-143D-4BF1-B25F-EFB9D95E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E24F-F9E0-4328-A59A-4BA94F5B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E87D-E176-4FD3-8821-63674E0D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ED6C-3F85-43FE-876A-E6FE04BF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345D4-C6E4-4574-8640-E319123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701D8-F735-4007-93C9-6EC4956C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74A1-99A7-46B8-830F-B8F70EE0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A77E-7834-4479-8F73-7328CCDE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261A-FF70-44DC-91AF-61BF724E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22B-08BD-43EA-A4EF-E7EBD452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33CE-0DC7-497D-8767-08073DDC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39291-D749-4C85-84B8-ACD281EA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A524-C7AF-4E69-93DD-A5D96E4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52A6-1170-40AE-903B-ACA61E0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68D2-BC33-4596-9745-606BF57C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DF63-6534-4AEE-9B70-35B3085B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B5F67-2BD2-43FD-9755-980E868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7CC5A-D0ED-437E-9088-CE928F2D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A19E2-48CF-4659-969B-04724E14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B28F0-9480-4029-8D58-A5C644E3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01D-27A0-4326-A563-A6DC707F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5D5F8-E008-4207-BF25-EA6F4868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61B1-3D6E-4820-B708-0E93ECBE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6CAE-1636-474A-A8C5-812D7E20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3DCF4-F46A-4B59-A72C-99287942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7323-23D7-47BB-9B1C-49BFA168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F073F-917A-473A-A9A1-A3350D06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7B422-34DC-4121-9AB7-F9919689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D2A4D-DF29-4DC2-AAEA-2D6C173E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7F28-9837-4E4E-8C24-A12D9CB8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FE63-555D-4769-B40C-0302F98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C54-962E-46D8-BCC1-090D6AE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42059-B649-414B-A27B-C3ED57EB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C63A7-7423-449C-89A7-F79B2A87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FD78A-E40B-4343-9CE8-5CEB2632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6D6EB-A540-4762-A141-764FD087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C4FC2-35E8-48BE-8A3B-4C0C6377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1CE9C-37FA-4C2F-ACD3-AAF6B21A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49ABA-29FB-4E3D-BFB5-237F8171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3E7E1-31E8-4C3C-948D-CD6ABF4B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9AC7B-4DFF-49D7-A9B5-6E17BA64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119F2-0DF1-4C06-9E59-7943DAF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391-F5B5-4DD8-85DE-48B26AD6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27C7-C5E5-4D4E-8C3D-8E314FD5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C526F-5A79-411E-9907-C4E771A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5A6CD-ACB6-48FF-9463-D9467FCA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C3F78-0B27-4B91-A608-DDE43463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698F8-BFDE-47D8-8BC7-C19CB456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5716-F161-4E8E-A04A-F8CA3826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10946-52E3-484F-9A52-4062798A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0EE3F-9075-47C3-98E1-1523C0A2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A03C9-8649-4017-90AA-BDD08DB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165F-7631-4BD1-826E-7B4E54A0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738-2DBB-4180-BDD3-AFD516E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EC58B-AF89-417B-99D5-D966A775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549EE-3321-4E74-BF06-A33E61A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7BAF0-652A-4E7B-9442-74001B3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E8DF6-963E-443E-9281-8CC0DE86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B43E7-D872-4A82-9F85-3C58AFDB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3BFBC-1F28-46DB-A32F-C9DB7FCC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AD900-7163-401D-A7C8-38E29DC2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F429F-0D34-49B4-A454-46C87795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A688D-CF00-4D24-81FE-5AA33813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121DB-9A2A-4C2A-9191-B278E978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D827-5DE7-4A59-906D-AB7BA58FF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27CF-9006-4909-9BEC-C4C95625B9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38EA-59C4-4115-A350-5854C938C7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6E10-D552-4126-97B8-F4C30414C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2B9C-A9C0-4B4D-BFFE-7B41EC3AAC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0C3-BCCF-4834-9F84-20F0903224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BDFC-24F6-4D47-B032-28AED3C840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A37C-FC14-4B53-B9BD-A25BEB78BE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213E-C2ED-48D0-9F31-302C2D9E37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03D1-61D7-4158-9D4F-AFEBE84A51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198A-FDEA-4A8B-8377-6D302EE5B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AB4-9061-4150-A6EF-CB0410DED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F128-BE50-4A4F-A6FB-5F8CC55E5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02BF-A1AA-4035-9DD4-CF2E1A538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963E-0E06-4B29-B381-0EABB3F0C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FEDE-C3F6-4AC5-941D-DF33C5E210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C815-E9F2-4C2A-9CA1-37FC28B60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F9A8-180D-4392-B3EE-A97167413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DB22-96DF-49FF-ACA9-730EAA71B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7813-F3AA-41F0-A16D-E1F8BFABC4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6ED1-772A-4DBD-8B9E-AA03E1ABED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E112-9850-4045-91B9-E40179BC8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6CB-31C1-4B3C-A21D-341234E92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1B68-942D-4D56-9919-601476793E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54AA-675E-445C-BED6-9A5133D09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B344-CFE4-4C98-BBE7-4925B71929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AED-BA41-45F8-BC64-FD1E07A3CE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6F0A-B8A4-4BBD-AF64-61954C46B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D10E-8D94-457A-8323-A736949AE0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A7C6-4328-4078-95CB-541EF96FD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A96A-0078-4E1D-BE6C-1628A25C0E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7765-F819-4DA3-BEE8-95EF7BABB7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BC4-6F83-4026-9550-5467474484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61AF-562A-4335-B0F9-24FD3282B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6B36-C174-4157-9066-F0FA322D1D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AEF2-4683-4708-94B5-B1D2D9687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6697-19D3-43E8-A6C5-835C147E8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4EBA-89F0-42F6-A553-0130E395DE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023-54C3-4254-8317-11972E5DE9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D6F6-BF2D-4E3E-A629-3826C20DA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3076"/>
          <p:cNvGrpSpPr/>
          <p:nvPr/>
        </p:nvGrpSpPr>
        <p:grpSpPr>
          <a:xfrm>
            <a:off x="297000" y="2200320"/>
            <a:ext cx="8605800" cy="1805040"/>
            <a:chOff x="297000" y="2200320"/>
            <a:chExt cx="8605800" cy="1805040"/>
          </a:xfrm>
        </p:grpSpPr>
        <p:pic>
          <p:nvPicPr>
            <p:cNvPr id="1025" name="图片 1" descr=""/>
            <p:cNvPicPr/>
            <p:nvPr/>
          </p:nvPicPr>
          <p:blipFill>
            <a:blip r:embed="rId1"/>
            <a:stretch/>
          </p:blipFill>
          <p:spPr>
            <a:xfrm>
              <a:off x="2214720" y="2200320"/>
              <a:ext cx="47145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" descr=""/>
            <p:cNvPicPr/>
            <p:nvPr/>
          </p:nvPicPr>
          <p:blipFill>
            <a:blip r:embed="rId2"/>
            <a:stretch/>
          </p:blipFill>
          <p:spPr>
            <a:xfrm>
              <a:off x="297000" y="3400560"/>
              <a:ext cx="61624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图片 3" descr=""/>
            <p:cNvPicPr/>
            <p:nvPr/>
          </p:nvPicPr>
          <p:blipFill>
            <a:blip r:embed="rId3"/>
            <a:stretch/>
          </p:blipFill>
          <p:spPr>
            <a:xfrm>
              <a:off x="6654960" y="3433680"/>
              <a:ext cx="224784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0" name="组合 4099"/>
          <p:cNvGrpSpPr/>
          <p:nvPr/>
        </p:nvGrpSpPr>
        <p:grpSpPr>
          <a:xfrm>
            <a:off x="252360" y="1971720"/>
            <a:ext cx="8637480" cy="2914560"/>
            <a:chOff x="252360" y="1971720"/>
            <a:chExt cx="8637480" cy="2914560"/>
          </a:xfrm>
        </p:grpSpPr>
        <p:pic>
          <p:nvPicPr>
            <p:cNvPr id="1031" name="图片 1" descr=""/>
            <p:cNvPicPr/>
            <p:nvPr/>
          </p:nvPicPr>
          <p:blipFill>
            <a:blip r:embed="rId1"/>
            <a:stretch/>
          </p:blipFill>
          <p:spPr>
            <a:xfrm>
              <a:off x="252360" y="1971720"/>
              <a:ext cx="863748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1" descr=""/>
            <p:cNvPicPr/>
            <p:nvPr/>
          </p:nvPicPr>
          <p:blipFill>
            <a:blip r:embed="rId2"/>
            <a:stretch/>
          </p:blipFill>
          <p:spPr>
            <a:xfrm>
              <a:off x="1763640" y="3846600"/>
              <a:ext cx="676908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3" name="直接连接符 4100"/>
          <p:cNvSpPr/>
          <p:nvPr/>
        </p:nvSpPr>
        <p:spPr>
          <a:xfrm>
            <a:off x="1979640" y="3846600"/>
            <a:ext cx="1512720" cy="6620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4101"/>
          <p:cNvSpPr/>
          <p:nvPr/>
        </p:nvSpPr>
        <p:spPr>
          <a:xfrm flipH="1">
            <a:off x="1979640" y="3832200"/>
            <a:ext cx="2016000" cy="7491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4102"/>
          <p:cNvSpPr/>
          <p:nvPr/>
        </p:nvSpPr>
        <p:spPr>
          <a:xfrm>
            <a:off x="6516720" y="3789360"/>
            <a:ext cx="165564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4103"/>
          <p:cNvSpPr/>
          <p:nvPr/>
        </p:nvSpPr>
        <p:spPr>
          <a:xfrm flipH="1">
            <a:off x="5940000" y="3789360"/>
            <a:ext cx="2016360" cy="7491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09440" y="1033560"/>
            <a:ext cx="8923320" cy="47908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116000" y="2708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116000" y="3789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042920" y="4869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38240" y="1019160"/>
            <a:ext cx="8866080" cy="48196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3276720" y="2952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2124000" y="49849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3276720" y="5300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109440" y="1819440"/>
            <a:ext cx="8923320" cy="3219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6458040" y="4005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7812000" y="400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6877080" y="45370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8101080" y="45370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17:5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